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E30-CFA4-4863-B946-9DCC0531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B8C-51FE-405E-9835-9001EB9D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D48-AC8F-4D07-9BC3-6C6CF2E2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B2E-4A55-4CD6-BB0B-622F32B3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3473-7DE8-4093-BB4D-9B5E1980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472F-1E0E-4E97-9F89-1F334013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068B-FB61-4B15-B767-9D987757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94B9-0699-49C1-943B-E8DA811B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39EF-C834-4CA0-B64F-7B86E283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40F8-5DDE-47BB-9C00-1B5AF904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7EB6-2A6B-4CB9-B4FB-E363C428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D5B-EE17-45FC-84FC-44EA633D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095A-81F5-4B36-B051-68654588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AA32-22CB-4CB0-8BC1-B1547D0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3798-0A2A-4D6D-AAB9-FD1F9DA4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FA98-E6D4-4F5B-81C3-EC05F8C9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158-6BF0-4555-8B92-6145E377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A2A5-B9B4-447F-A783-866F1257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87FE-5F1D-4B33-B256-047B9592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7E1E-3A83-4642-965F-F0864D98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66E1-E55B-423C-8542-190464EF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CE11-CCB4-4921-AF3A-ACA1FA8A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DE0-B714-4909-9DE3-27DFEBDC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958F-FBFA-43DB-823E-3F57FF68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5BF1A-F679-46A0-B50A-44B8B981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4CB9-F90D-4AEA-A9A3-595050E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D987-7A47-48AA-A740-B338AAF7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6D1C-5341-41E9-8EE3-7A141B1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C5CF-FA1D-422C-958C-1E9A2064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1128-4319-4A09-8105-01CB64D0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72052-1B1E-43A9-B6E4-3B317E1C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F71EE-C025-4209-AA7A-6C805AB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A7075-C96F-434B-95EE-7CD208C0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C37-9A2E-429D-8929-1CCE243F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19554-5FAC-4C00-8409-21F6DE6E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0FB48-A161-487A-AFB2-B1498A04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51471-7C14-4810-925B-E3C646CB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D0D5-A906-43E4-ADE6-76C0F89F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EBBF-9607-4F6C-8928-599998B6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2330-76A4-4B40-AB3E-F429707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74961-BA77-4722-9555-1FA59FED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9FD1-E82B-408C-9278-250A0E97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76443-0740-4565-8CD3-5E6D684F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0F2-8170-475A-A11E-3C5A895B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0BC-E756-49AB-A368-B730C532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BE0-46B7-421F-AC4F-6797A19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34A-D224-4CAE-B09D-0C87447B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A5C-4EA6-452C-9DF5-BBFC9AA3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106-FB45-4B6A-9071-4D9EA317832E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F509-28D8-4E41-8440-C1C01C183040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08AC-7886-4ED0-BFF2-1506243547DF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47F1-C214-4714-9041-3C33725289DB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04960" y="835200"/>
            <a:ext cx="7826400" cy="445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7786800" cy="542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128520" y="755640"/>
            <a:ext cx="8564760" cy="526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28520" y="493560"/>
            <a:ext cx="9094680" cy="481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58000" cy="658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akak.ru/recipes/pictures/000/016/005_big.jpg"/>
          <p:cNvPicPr/>
          <p:nvPr/>
        </p:nvPicPr>
        <p:blipFill>
          <a:blip r:embed="rId1"/>
          <a:stretch/>
        </p:blipFill>
        <p:spPr>
          <a:xfrm>
            <a:off x="714240" y="571680"/>
            <a:ext cx="776304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7" descr="new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31399RO-1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131402RO-1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131399RO-1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131402RO-1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131399RO-1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131399RO-1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131399RO-1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131399RO-1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131402RO-1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"/>
          <p:cNvPicPr/>
          <p:nvPr/>
        </p:nvPicPr>
        <p:blipFill>
          <a:blip r:embed="rId1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14640" y="500040"/>
            <a:ext cx="3822480" cy="58644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2718000" y="571680"/>
            <a:ext cx="4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2860560" y="121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074760" y="1785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2860560" y="242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2575800" y="3071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071880" y="3643200"/>
            <a:ext cx="5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4" name="Прямоугольник 15"/>
          <p:cNvSpPr/>
          <p:nvPr/>
        </p:nvSpPr>
        <p:spPr>
          <a:xfrm>
            <a:off x="27176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6994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08080" y="-158760"/>
            <a:ext cx="8564400" cy="688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92160" y="1494000"/>
            <a:ext cx="86500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566640" y="4668840"/>
            <a:ext cx="8315280" cy="1268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http://festival.1september.ru/articles/527951/img2.jpg"/>
          <p:cNvPicPr/>
          <p:nvPr/>
        </p:nvPicPr>
        <p:blipFill>
          <a:blip r:embed="rId2"/>
          <a:stretch/>
        </p:blipFill>
        <p:spPr>
          <a:xfrm>
            <a:off x="1785960" y="114300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C:\Users\Android\Desktop\Scan2.jpg"/>
          <p:cNvPicPr/>
          <p:nvPr/>
        </p:nvPicPr>
        <p:blipFill>
          <a:blip r:embed="rId1"/>
          <a:stretch/>
        </p:blipFill>
        <p:spPr>
          <a:xfrm>
            <a:off x="231840" y="785880"/>
            <a:ext cx="4254480" cy="4857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Android\Desktop\Scan3.jpg"/>
          <p:cNvPicPr/>
          <p:nvPr/>
        </p:nvPicPr>
        <p:blipFill>
          <a:blip r:embed="rId2"/>
          <a:stretch/>
        </p:blipFill>
        <p:spPr>
          <a:xfrm>
            <a:off x="4572000" y="785880"/>
            <a:ext cx="42940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71424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ru-RU" sz="4800" spc="-1" strike="noStrike">
                <a:solidFill>
                  <a:srgbClr val="6aa62d"/>
                </a:solidFill>
                <a:latin typeface="Constantia"/>
              </a:rPr>
              <a:t>Й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вь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3079800" y="2286000"/>
            <a:ext cx="300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ьпан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3880" y="1397160"/>
          <a:ext cx="6096240" cy="3840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ч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щ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20840" y="1768320"/>
            <a:ext cx="8321400" cy="22370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432800" y="300024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2109"/>
                </a:solidFill>
                <a:latin typeface="Arial"/>
              </a:rPr>
              <a:t>В цветнике цветут цветы.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pic>
        <p:nvPicPr>
          <p:cNvPr id="204" name="Picture 2" descr="http://www.sadcvetov.ru/uploads/posts/2009-01/1231726369_cvetnik2.jpg"/>
          <p:cNvPicPr/>
          <p:nvPr/>
        </p:nvPicPr>
        <p:blipFill>
          <a:blip r:embed="rId2"/>
          <a:stretch/>
        </p:blipFill>
        <p:spPr>
          <a:xfrm>
            <a:off x="2714760" y="378612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-560520"/>
            <a:ext cx="8321760" cy="24130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3"/>
          <p:cNvSpPr/>
          <p:nvPr/>
        </p:nvSpPr>
        <p:spPr>
          <a:xfrm>
            <a:off x="2571840" y="164304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белой шапке стоит дед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сли дунеш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– шапки нет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64388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450720" y="-1865160"/>
            <a:ext cx="4840560" cy="34448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3"/>
          <p:cNvSpPr/>
          <p:nvPr/>
        </p:nvSpPr>
        <p:spPr>
          <a:xfrm>
            <a:off x="2286000" y="714240"/>
            <a:ext cx="50720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ойди по зелёному лугу, увидишь ты скромный цветок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Будь осторожен: он ядовит и очень жесток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58:00Z</dcterms:created>
  <dc:creator>ToHa</dc:creator>
  <dc:description/>
  <dc:language>en-US</dc:language>
  <cp:lastModifiedBy>Мама</cp:lastModifiedBy>
  <dcterms:modified xsi:type="dcterms:W3CDTF">2014-12-07T10:54:39Z</dcterms:modified>
  <cp:revision>54</cp:revision>
  <dc:subject/>
  <dc:title>Дифференциация У-Ю</dc:title>
</cp:coreProperties>
</file>